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EC2-4549-45B3-9033-BF96B389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9D1-09AA-4578-A11C-92756BF4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AD9-20C2-4BFC-BF26-34610F7D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340-E10E-4139-82B9-6BD370C2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8EB-AD01-4FC9-9380-9D818318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718-DF2E-4D09-864D-66181F48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560-162D-4F2A-9822-776AB503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74F-5B5F-47B4-802E-924BCD83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AED-0A91-4929-BA4F-1D80DF0C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50E-5320-40D2-A94A-71BC130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314-7942-4433-B516-0FA0802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82C-2168-460B-855A-AC118A1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D162-30CB-4E0F-9A2F-A5B50EBD8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 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person who tells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 liste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2-05T23:00:46Z</dcterms:modified>
  <cp:revision>1</cp:revision>
  <dc:subject/>
  <dc:title>PowerPoint Presentation</dc:title>
</cp:coreProperties>
</file>